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1972-7D0A-4C3F-A3ED-0724C2B28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D211-5EE4-4682-80AE-9FCEE9A2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3FA7-843D-4D0C-9A3B-7550A6A45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C4DA-70D2-42EB-922D-73D73ECEB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E5D4-B19C-4789-A8EB-51A78E09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A5A2-69FA-47A1-BE91-8A742F47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B366-62A8-46B9-833C-FE0C700C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B47E-A788-4AC9-A776-9627609C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B7F6-3403-48B0-B0C2-A1BD7067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2080-5EF6-4384-AF3B-22E0530D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E5BC-9108-4978-AC64-279AFD77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E825-D582-4FBE-8B75-00F94945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B1EF-6952-434C-9C3C-3D9EF6DA83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w Science Works - TES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560" y="2997360"/>
            <a:ext cx="6985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f"/>
                </a:solidFill>
                <a:latin typeface="Arial"/>
              </a:rPr>
              <a:t>Get your white boards ready . . .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1285920" cy="1843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705800" y="1052640"/>
            <a:ext cx="143820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" dur="1" fill="hold"/>
                                  <p:tgtEl>
                                    <p:spTgt spid="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w Science Works - TES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560" y="3068640"/>
            <a:ext cx="604836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n experiment I am timing 10 swings of a pendulum, at different leng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-what is the dependent variab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-what is the independent variab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1285920" cy="1843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705800" y="1052640"/>
            <a:ext cx="1438200" cy="1819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140360" y="1125360"/>
            <a:ext cx="93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27640" y="3357720"/>
            <a:ext cx="2627280" cy="2466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-  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- leng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- No. sw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-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w Science Works - TES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8920" y="3068640"/>
            <a:ext cx="604836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am investigating the number of pupils with blue eyes in the cl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variable 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1285920" cy="1843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705800" y="1052640"/>
            <a:ext cx="1438200" cy="1819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40360" y="1125360"/>
            <a:ext cx="93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300720" y="3357720"/>
            <a:ext cx="2627280" cy="2466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-  categor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- continu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- discr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- orde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w Science Works - TES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3068640"/>
            <a:ext cx="604836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I completely control all the variables and only change the independent variable in my experiment. What sort of experiment is 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1285920" cy="1843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705800" y="1052640"/>
            <a:ext cx="1438200" cy="1819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140360" y="1125360"/>
            <a:ext cx="93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227640" y="3357720"/>
            <a:ext cx="2627280" cy="2466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- accu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- prec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- rel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- val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" dur="2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w Science Works - TES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3068640"/>
            <a:ext cx="604836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my experiment I am measuring the number of star jumps a person does in 30 seconds, what is the dependent variable I am measur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1285920" cy="1843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705800" y="1052640"/>
            <a:ext cx="1438200" cy="1819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140360" y="1125360"/>
            <a:ext cx="93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7640" y="3357720"/>
            <a:ext cx="2627280" cy="2466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-  categor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- continu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- discr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- orde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7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w Science Works - TES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8920" y="3068640"/>
            <a:ext cx="604836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one of these can be measured by a percentage when discussing the results and can be improved by carrying out repeat measurements and finding a me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1285920" cy="1843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705800" y="1052640"/>
            <a:ext cx="1438200" cy="1819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140360" y="1125360"/>
            <a:ext cx="93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27640" y="3357720"/>
            <a:ext cx="2627280" cy="2466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- rel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- prec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- fair 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-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3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w Science Works - TES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3068640"/>
            <a:ext cx="604836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ing a new gadget bought on ebay,I estimated the temp of the Sun’s surfa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device gave these reading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101.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  1100.9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  110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  1101.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think that my results are . .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1285920" cy="1843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705800" y="1052640"/>
            <a:ext cx="1438200" cy="1819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140360" y="1125360"/>
            <a:ext cx="93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227640" y="3357720"/>
            <a:ext cx="2627280" cy="2466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-  accu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- rel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- prec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- ran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2" dur="2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20:41:36Z</dcterms:created>
  <dc:creator>BRISTOL CITY COUNCIL</dc:creator>
  <dc:description/>
  <dc:language>en-US</dc:language>
  <cp:lastModifiedBy>stbanksg</cp:lastModifiedBy>
  <dcterms:modified xsi:type="dcterms:W3CDTF">2006-11-13T11:44:31Z</dcterms:modified>
  <cp:revision>6</cp:revision>
  <dc:subject/>
  <dc:title>How Science Works - TEST</dc:title>
</cp:coreProperties>
</file>